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84A3-6C09-4263-A2B4-53938235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C4CB-2E53-452B-8BF1-4184D9DB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8E2E7-99C9-46F5-AE33-959B9E5E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5DD5B-5A62-4AAE-A7DC-11930E50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5AD25-65DB-447B-8617-EE2B48D4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D7257-6AF2-4E79-9554-481CFCD7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77919-4437-4D0F-A251-FA619B51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E3737-61CB-4E23-AA61-0913B886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8D0FC-4BB0-489E-9422-0771C529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08D94-A4DA-4801-AB0D-5CD2CACD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2F55E-A5C1-4C1A-A1BE-6C9A5B85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91C-9463-4878-9911-A31A09D6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29BC-1AB5-4AAD-A005-A8FF7BDF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BAB7-310C-4CB8-BB61-82B3A537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03BC-633A-4372-8B49-F0467438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8CAD-0036-426B-9BA8-8DD13702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C937-32C4-411B-AA21-4A05A4F7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AA7A-41D3-4109-A442-4BCEA97D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D91F-18E9-46CA-A0CE-03416633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F663-4E60-4CF4-AFC4-02A10197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4A6C-CE46-4B50-8578-F35562D1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A707-E972-4A43-8614-CE3EEFC6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C0B2-15F2-4539-85CB-4A617082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1137-1A96-4058-A974-40087D23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009A-BADF-41DE-A9EB-39D0F514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0F4E-C5EA-4FBF-96AC-17E2F607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E48F7-A22D-46D2-B4AE-0F8A818C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20E03-E5A2-4797-910C-F6839891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3374D-BD1F-47B9-BAB9-DF5C8204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1676D-1B16-4F7C-92E0-3EFE53D5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55153-973F-463C-9038-AEBB6B75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EB5-74BF-4AFE-B9A1-FD9831EB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CBB41-09BD-47FF-B9D2-33932FB8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79082-CB15-4245-A6C5-42155F70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E8EC6-A36C-4092-8DA6-75AB7198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0818F-EA74-4017-B46E-67E71F47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F8B6D-337A-423B-8A9C-B9E20E80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6B43B-FEF1-4AA8-82B3-0090D81D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3AADF-6C22-458D-B3A0-946D1215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64190-EBDC-4E11-94C7-CD7E22AF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5BE72-4419-4428-BE63-788D29EB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97FA8-F5F6-4EE9-B7DC-196417C5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2691-3AF6-4AEB-9D55-62A5BA8B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7A2F5-A609-4F92-99E8-0A673BCB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965F0-300D-43AB-BFB5-5E624755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45E45-3EEC-4550-9EFC-86AF25E4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5C91A-6FE4-4913-9C5F-21D943C3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924B3-B531-473A-A202-B7422F31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9AE59-DE32-4D25-8CFF-F41A97FB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856A9-569A-4A9D-A542-30112D3D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060A0-4152-404F-8389-DBF16451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2CEF7-376F-459D-8CC3-FD582B9B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4BDE0-1D21-449F-99EC-F86730A5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FC69-4C16-4746-A7B6-9ADF02C1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D41DA-401A-4645-A90A-6CDE06F9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3D5A2-4007-40A0-93F1-79CBAC13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30959-5CB6-42C6-8BAA-C22D69EA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594DD-92F6-4045-B9E8-94BDBD99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AB649-08E8-43E9-AAA2-41841D47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123BF-4557-4C87-BA1A-E8B0F654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065BF-AE33-41B8-A483-A2D9B1DA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C1981-F3EF-4896-B4EE-B7AD6898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A9070-1924-4724-BBCC-3C5A02E3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14322-7A3C-4E82-BA29-8876F163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971-9F50-4474-8B84-53047325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8CDA0-BA72-4317-AAAA-7E9D3E59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DEAE5-2060-4656-B132-CB744E25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A593E-5E8D-42C4-954C-845CD316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6C4B0-9E11-4F23-8A11-5EE95473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626A4-3CC5-40F2-BD73-97DE24E3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2E70D-94F3-4993-AF78-342F55EF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457F0-D12A-48FF-B6C3-59D2D5E1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686C4-CD7F-4338-B019-E30CDE1A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0D08C-67AB-42D0-AC65-93EF215E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FEE46-BCE4-4413-9871-07C00A05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D32-CA66-4807-B37A-7523C07C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1B94D-807F-4A3E-8FCC-E2284CC8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F92F0-BA4C-4BD3-BBBA-39C81672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2263D-92EC-4E88-9A8F-D4BDCCAF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D8BC5-A852-4CD6-A426-87B11D3F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213DC-329A-49E2-90CD-605316EC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0FB1A-171C-4E7C-8EBE-4ECD7BC6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ED9E8-1096-4E71-B228-593ADFBB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08879-A5F8-46A3-9CE1-2EFAA4E8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9A0D4-A9B7-48A5-854D-10362F81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DB17E-8C81-4442-A8B1-7F7D6168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CA7A-2495-4862-81A6-232B2182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E5FD3-8D46-41AF-B43E-555F824D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876CF-35F0-4262-AB67-A2977000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37D9B-9D85-4C73-8366-2A3D40DA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F95CB-3E31-48DE-A598-BA9A7284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47F10-45D2-46C1-9F66-3C95E786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DDAE4-556A-4D84-90D4-5E7A1223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4477A-B1B4-4B85-8AE2-86252226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FFF94-F762-4149-970C-42CD3A73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DD6E6-180A-4D69-8759-66D8696E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9EA6E-B4F6-4516-B608-67D5CF78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83F9-D40F-4E9E-AFC3-F4751E5E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FF05D-284B-4F83-8F7C-8D6BF9D4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793F9-D175-4E0D-B7FE-93D9CDB6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DF8B6-CD5D-467B-9FC5-D5EB1020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D8700-E269-4389-A796-CE9C6264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058A8-CFA1-43B1-96A1-C1FF7AA8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BC265-D32E-4B60-BB68-684F5771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3D548-C8BA-4C84-9466-7DB7E436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B6EB9-370B-4F60-B20C-4FF564DA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B5398-DAC4-4D17-9243-EAE4536D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031B7-C55B-4253-BB3F-4E724500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65431-3541-4FC1-86DD-D7EC1052B4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676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280" y="631800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67000" y="634680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30640" y="634680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4123B-7515-41AB-9D56-7327FD881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2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6080" y="656244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35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CE256-1342-4FBC-933C-E60BD8C99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12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56080" y="656244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335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95FF4-29A1-4B7A-AFC4-4B5108AD2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3280" y="216504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6994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994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994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3AA41-0E75-463F-93F8-4C9D4176A8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3280" y="21603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BDBD6-0B20-4B58-AD50-40E3F2E570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1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02D31-4BE4-403B-B7CA-0EFB85E8DF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3280" y="216504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2920" y="6994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994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720" y="6994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73856-CD56-4B92-A03D-343F1CAED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3280" y="79164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2920" y="537516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8080" y="537516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7720" y="537516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0B94D-2A48-41A0-B945-EB1F19F57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29920" y="10238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reating a new government:</a:t>
            </a:r>
            <a:br>
              <a:rPr sz="4100"/>
            </a:b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The U.S. Constitution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280099"/>
                </a:solidFill>
                <a:latin typeface="Arial"/>
              </a:rPr>
              <a:t>Breaking down the Preamble...</a:t>
            </a:r>
            <a:endParaRPr b="0" lang="en-US" sz="36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280099"/>
                </a:solidFill>
                <a:latin typeface="Arial"/>
              </a:rPr>
              <a:t>What are the purposes of government?</a:t>
            </a:r>
            <a:endParaRPr b="0" lang="en-US" sz="36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221292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280099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280099"/>
                </a:solidFill>
                <a:latin typeface="Arial"/>
              </a:rPr>
              <a:t>We the people...</a:t>
            </a:r>
            <a:endParaRPr b="0" lang="en-US" sz="60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45920" y="2743200"/>
            <a:ext cx="8854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s phrase establishes the idea of </a:t>
            </a:r>
            <a:r>
              <a:rPr b="1" lang="en-US" sz="3200" spc="-1" strike="noStrike" u="sng">
                <a:solidFill>
                  <a:srgbClr val="000080"/>
                </a:solidFill>
                <a:uFillTx/>
                <a:latin typeface="Arial"/>
              </a:rPr>
              <a:t>popular sovereignty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:  the government gets its authority from </a:t>
            </a:r>
            <a:r>
              <a:rPr b="0" lang="en-US" sz="3200" spc="-1" strike="noStrike" u="sng">
                <a:solidFill>
                  <a:srgbClr val="000080"/>
                </a:solidFill>
                <a:uFillTx/>
                <a:latin typeface="Arial"/>
              </a:rPr>
              <a:t>the will of the peopl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529920"/>
            <a:ext cx="9070920" cy="22129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 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in Order to form a more perfect Union,…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20360" y="3429000"/>
            <a:ext cx="88549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How do the states unite to act as a single nation, for the good of all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What means does the government have to </a:t>
            </a:r>
            <a:r>
              <a:rPr b="0" lang="en-US" sz="3200" spc="-1" strike="noStrike" u="sng">
                <a:solidFill>
                  <a:srgbClr val="000080"/>
                </a:solidFill>
                <a:uFillTx/>
                <a:latin typeface="Arial"/>
                <a:ea typeface="Arial Unicode MS"/>
              </a:rPr>
              <a:t>improve itself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 (that is, to become “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more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 perfect”)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5920" y="840960"/>
            <a:ext cx="90691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establish Justice,…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33240" y="2722320"/>
            <a:ext cx="88538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Name as many institutions/professions as you can that are part of the justice system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24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6000" spc="-1" strike="noStrike">
                <a:solidFill>
                  <a:srgbClr val="280099"/>
                </a:solidFill>
                <a:latin typeface="Arial"/>
                <a:ea typeface="Arial Unicode MS"/>
              </a:rPr>
              <a:t>insure domestic Tranquility,…</a:t>
            </a:r>
            <a:endParaRPr b="0" lang="en-US" sz="60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20360" y="3200400"/>
            <a:ext cx="885348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488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hat programs, laws, government offices, etc. does the government provide in order to keep people safe and make life run smoothly within the country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488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5440" y="647280"/>
            <a:ext cx="90694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provide for the common defence,…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20360" y="3200400"/>
            <a:ext cx="885348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69800"/>
                <a:tab algn="l" pos="582480"/>
                <a:tab algn="l" pos="1039680"/>
                <a:tab algn="l" pos="1496880"/>
                <a:tab algn="l" pos="1954080"/>
                <a:tab algn="l" pos="2411280"/>
                <a:tab algn="l" pos="2868480"/>
                <a:tab algn="l" pos="3325680"/>
                <a:tab algn="l" pos="3782880"/>
                <a:tab algn="l" pos="4240080"/>
                <a:tab algn="l" pos="4697280"/>
                <a:tab algn="l" pos="5154480"/>
                <a:tab algn="l" pos="5611680"/>
                <a:tab algn="l" pos="6068880"/>
                <a:tab algn="l" pos="6526080"/>
                <a:tab algn="l" pos="6983280"/>
                <a:tab algn="l" pos="7440480"/>
                <a:tab algn="l" pos="7897680"/>
                <a:tab algn="l" pos="8354880"/>
                <a:tab algn="l" pos="8812080"/>
                <a:tab algn="l" pos="9269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List all of the things the governments does, builds, creates, or maintains to defend our country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90694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promote the general Welfare,…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20360" y="3657600"/>
            <a:ext cx="885348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69800"/>
                <a:tab algn="l" pos="582480"/>
                <a:tab algn="l" pos="1039680"/>
                <a:tab algn="l" pos="1496880"/>
                <a:tab algn="l" pos="1954080"/>
                <a:tab algn="l" pos="2411280"/>
                <a:tab algn="l" pos="2868480"/>
                <a:tab algn="l" pos="3325680"/>
                <a:tab algn="l" pos="3782880"/>
                <a:tab algn="l" pos="4240080"/>
                <a:tab algn="l" pos="4697280"/>
                <a:tab algn="l" pos="5154480"/>
                <a:tab algn="l" pos="5611680"/>
                <a:tab algn="l" pos="6068880"/>
                <a:tab algn="l" pos="6526080"/>
                <a:tab algn="l" pos="6983280"/>
                <a:tab algn="l" pos="7440480"/>
                <a:tab algn="l" pos="7897680"/>
                <a:tab algn="l" pos="8354880"/>
                <a:tab algn="l" pos="8812080"/>
                <a:tab algn="l" pos="9269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What does the government do to make life better, easier, healthier, and more pleasant for all its citizens and residents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1360" y="676440"/>
            <a:ext cx="9069480" cy="2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and secure the Blessings of Liberty to ourselves and our Posterity,…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20360" y="3657600"/>
            <a:ext cx="885348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69800"/>
                <a:tab algn="l" pos="582480"/>
                <a:tab algn="l" pos="1039680"/>
                <a:tab algn="l" pos="1496880"/>
                <a:tab algn="l" pos="1954080"/>
                <a:tab algn="l" pos="2411280"/>
                <a:tab algn="l" pos="2868480"/>
                <a:tab algn="l" pos="3325680"/>
                <a:tab algn="l" pos="3782880"/>
                <a:tab algn="l" pos="4240080"/>
                <a:tab algn="l" pos="4697280"/>
                <a:tab algn="l" pos="5154480"/>
                <a:tab algn="l" pos="5611680"/>
                <a:tab algn="l" pos="6068880"/>
                <a:tab algn="l" pos="6526080"/>
                <a:tab algn="l" pos="6983280"/>
                <a:tab algn="l" pos="7440480"/>
                <a:tab algn="l" pos="7897680"/>
                <a:tab algn="l" pos="8354880"/>
                <a:tab algn="l" pos="8812080"/>
                <a:tab algn="l" pos="9269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What freedoms and privileges are guaranteed to everyone in the country, including future generations (posterity)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681120"/>
            <a:ext cx="9069480" cy="2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do ordain and establish this Constitution for the United States of America.”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20360" y="3885840"/>
            <a:ext cx="8853480" cy="308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o what kind of dealmaking had to take place in order for the Constitution to be created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3:23:47Z</dcterms:created>
  <dc:creator/>
  <dc:description/>
  <dc:language>en-US</dc:language>
  <cp:lastModifiedBy/>
  <cp:revision>1</cp:revision>
  <dc:subject/>
  <dc:title/>
</cp:coreProperties>
</file>